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86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7C757-BB81-4B75-B406-3C61FA4270D5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4A18-07E9-42C6-94B8-C3D45B502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A52E-DEAE-4B10-B32C-0EEA843BB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F794B3-CCA5-4671-9172-5F6840FBD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7A2814-FB65-491D-A152-776C34A91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04363E-FF1E-4D43-843C-AA7E57179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46E40A-C116-4B76-A17F-D38F2ADEB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4665B1-7D4F-48D0-A109-BD393D204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F54F73-54FF-402C-9D77-40F8D2C16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36109C-349D-4662-BEB6-D16FF97D6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7F5CFE-5333-47C6-9800-C179A5A58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F0D7B8-8B05-4DC6-BE04-7CC5AA483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B0243D-D849-44CC-A7AD-0B6A7247B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6071-E486-4286-B7AD-F69A8EAB5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A7EE40-16FB-4732-9F66-14EE47CF3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734401-F657-4FEC-B960-284A6F7EE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F82213-CE45-41CE-BCF3-1F76B8694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61AC83-6756-45C0-A612-160203849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F686F5-6263-478F-9B95-D8E334409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8E164D-EF6A-49CB-9B52-80C1BFFAE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FA8E0C-B325-4830-868C-205ABE8FA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E560A9-762D-4EA3-B50B-FD0F104E9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1741C5-0B67-4E71-8442-B701AE14E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DF2EC3-FBB0-4DE4-955F-BF566192C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17AF-CCD3-4B8A-920B-49DBFCBB4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EEFFBB-2DEF-4AA5-8EE4-E14BED83F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C431B3-AE42-4BB1-B22F-586AB9EA4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8F3D83-D7B6-44A3-BF37-26B77A127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9078E5-3447-4957-B2D7-0BF744E5D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9F4B52-8B6B-4A07-A2CC-950451BE0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D24033-8D2B-424D-902A-5D505F0E7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944A48-46AE-4F3B-8247-19C334AEF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5A91D7-A747-4E49-B61D-7B45A4D5A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ED53AC-4A4D-439E-A2A1-729AE8906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1E83BF-13AE-4E10-8A2B-96EBBE04E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86DFD-E072-4B89-BD82-2AD71FB9E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34B096-A69E-404A-9B59-2A4436183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5D5292-716A-4110-998E-364235230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7A11A3-D435-4CD5-893E-61C17E596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31B479-F2F9-4008-8A15-30AD6029E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BF6216-3D0D-46E3-8299-55CA4CABF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DFCB96-0FA9-4A74-B968-8ECB9F67A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BDBB5E-C383-4573-A038-C7EB5F29A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A99A56-6869-4159-A9FB-C013E159E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4D9223-2903-47CA-B289-14C1B4D46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91A342-6388-4CB0-844B-0E0CA6454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967DF-725F-4712-9E2B-3A8AF37F7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783CF8-75E3-4961-8179-5113EE26D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AC1832-6DD3-4125-A495-A3CB2344B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83B77B-B37E-4598-89E8-9A2F1B20E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68E782-2AA6-4AD7-A038-7A5AD701D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2D1F2F-BCB3-48AA-BBA0-C2C985925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E0F944E-1D2C-461F-AEA4-9945F083C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5C5BAB3-76CF-472D-B391-BB5FC6034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8884CB5-16C6-49B2-BFE2-B9BDA0717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07F5A7B-7F71-4AC2-8116-17A00EBD9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D9E6DCE-09FA-4309-9835-0F0581238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3A1A1-C4A0-4D1D-AB0E-3E858B618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0124D48-142E-4C89-9FDA-E8A111921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33D58B8-DD98-4281-AF76-C79828C98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95AE416-D066-4234-845D-15A60A66C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140B040-D294-4EB4-A025-E7C3EC3DA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B1D6C58-A63E-4FE8-9AE1-EC2DF7439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8AE62F7-C51C-4BAC-9E0F-E71496CFB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F978A0B-9CFB-48ED-A68C-C0A91CEE2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19B42-001F-4971-8080-A53527908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67BA1-4EDF-480D-B13A-EDC1B9F8A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4E4F8-6766-4EAF-AE7B-65061C9AB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B1AA1-D01A-47DD-AD6E-9D18E5D26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B2C7-8EAF-4201-8DBF-DC42E6F73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A075E-9919-432A-AB3C-A707D54DC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1D236-1F85-48E5-A8AD-69F32BB03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0EBDD-2876-4E74-8D4D-280CC0788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88A03-A443-41B1-B862-F85EF600B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7EAF2-40B9-47CE-A4DB-6430F1DEC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F35FE1-AE1C-4DD7-A46D-47A1DD7B8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4C8812-D7F5-4383-B3C4-704CB8992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7EB992-7CDB-4E28-B56B-C1FF1CBC8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9E9C0E-70EF-4CFD-A6F9-7000C9563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D40100-1D18-45CB-B389-D9782A140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D253-F879-4191-8178-1925D0033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843AAE-EB62-4A80-86A9-CD6769C50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9916A3-CCD7-45DB-B5FF-30245E357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8B200A-E88C-4FBC-98F9-A9F86F277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548B70-42A1-46CB-972D-FF5A46284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E4BB02-1E94-4A08-961D-6E2270898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4F2F31-2373-4563-8A85-1DE995E1F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D50845-569D-4BD5-8754-8B5E78851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1933D5-BC0C-4791-A29D-45ACC71AD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FEB970-F1E7-47A3-9FC3-FF44118C3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3A40E6-6DF2-48B2-865D-27D37D1DD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890F-EB4A-4C67-B89A-9CBC15213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5B9584-DA60-47F1-94A0-421B5AD43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C0A708-956B-446E-A767-33D790158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4BDCFB-D29D-4457-995B-D3D87E866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514E34-D01C-46C9-8533-B1FB293D0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5C75FD-C2F9-460B-961A-C2AF8C275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906DE0-7397-43D6-A49C-504CCDBA5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04352C-B41E-4BF4-BC35-912FC2C7C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0F9996-7E7F-4D71-8DE9-0334CD4DF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89991A-1C9B-49CD-9FC5-CEC7CF7FB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33144A-7394-43B7-9C44-AE051D6F0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C3D1-42F1-4B04-9EBD-58CC54969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0CA875-5B59-463D-AF99-8ABEF071C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785304-2D62-4EFA-94A7-C1963CAA6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31540B-6D07-4184-BCC1-34AC18AFF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F35D06-E104-4FE9-9D61-F049D8880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ADF445-36DE-411A-8F46-31DDBC178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205963-43F8-41F8-9E69-3623BE16B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1ADD9C-D600-4C43-A40C-608E6B377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553588-023F-4641-8725-04602D989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6D6F24-F309-40BE-87FB-D534B02DB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9A49C0-DB9D-4621-AFAC-57D1CC320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3CF2-24AD-41BA-B397-18928B32B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01B577-4E15-4EBC-955C-0BD4F790A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8655F9-4351-4573-8498-AEE0AAB24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87E5966-B35D-42EB-89DA-E679DBD6D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2993074-4089-4728-BBFC-57D5A5FCA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0BE958A-C335-461F-A6D7-F3699D633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E242E2C-395F-425D-805F-4682DD67E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E8080C7-F1BB-49DF-B8CC-B8B60A835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4375325-8C3C-41EB-8DD0-2AD3875A7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4CCC61D-DBF6-45A9-BF7B-CE4E13460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261DC8B-8B3A-4759-BA8A-BAE4F950A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F43F-4BB5-4527-A01C-4DBDCA6D2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5E0EF56-67B7-4C9B-9E83-35570AF48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52611F0-118B-427C-82EC-59D47DDCA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CC2C7D6-C508-47D5-AE37-65E29DB6B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602629-4CF0-4A6D-9E52-99A369CB3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48A6B7-AB08-41BD-B934-824E1030E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39AC12-9F6A-4181-A342-FB20305B2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AB8875-4C5B-42EC-80AC-DE2995DB8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457BD5-C39B-4A7E-B891-3D262BEB2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4B7E5D-2055-4B7B-A47A-9FCC3253D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3724CA-AF02-4A82-9E47-42F9AB576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7936-8819-4460-8860-506DCCE0A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AA9B28-B9AF-4F4B-A412-58BAF2B67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6477B2-C192-4DFC-A077-A1CC63701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88009F-2E3F-4087-9AA7-39D0056CF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708A3C-B104-4CC3-831A-E95D498EF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0AE232-3F27-4E83-9391-AF513E712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CCB74B-B6E4-4550-BEE8-F2F712C19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AD54CA-AE77-439E-9682-048863B78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768EEB-E3ED-4441-889C-3F04A68C9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2D88FA-03D9-439A-8877-49CA3826E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55D21A-7FF1-4E87-A12B-541D35D73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7DC0-ED74-47C4-955B-50D4CA1E2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67DD63-C53C-4B4A-B05D-15EA8E767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EB4496-82FF-48D3-B12E-52B5FF3FB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1271AA-FDAC-4BAB-B63B-C28EDFF47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E60625-24F5-45CB-A137-23EB09732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6F3F13-8AEF-459C-822C-E44FD4377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62C4A5-B4C6-46F2-A9AA-844FDD1B1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253138-4C06-44B1-A7B0-DD50B494E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1F322B-2472-4439-BF18-E13C3BD5F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FE3C9E-6B36-438D-B59B-097E48A79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96F0D6-84BD-4EB3-B691-B65A11D06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25ECB-559C-4868-ACDA-5075D2C857C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4DBC1-4359-4FCD-8414-8B8A3965A9E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6BBDE-CE1B-4098-AE3D-25CC61F76A5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8E409-05D9-45CE-AD04-1D8CBCCA7B9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1981F-91BD-4CC1-A00C-DF1C3BA895E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51B81-0137-4834-8487-742D263D087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22C08-5EAE-4FCB-ACC6-5EF1A8A3034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29C27-52B8-4AFF-B551-135F7C334CC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D8B9E-A58F-448C-ACD2-62D23EBC01A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80458-43DF-4EB9-8A48-A87130E6F5F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818D7-2AF8-42D4-A08A-CF3897A5742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33346-E659-4A27-9BDE-CC244DD71FE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C8EB6-0458-4596-9B35-658D2CA5EEC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18"/>
          <p:cNvGrpSpPr/>
          <p:nvPr/>
        </p:nvGrpSpPr>
        <p:grpSpPr>
          <a:xfrm>
            <a:off x="357120" y="2357280"/>
            <a:ext cx="3143160" cy="3357000"/>
            <a:chOff x="357120" y="2357280"/>
            <a:chExt cx="3143160" cy="3357000"/>
          </a:xfrm>
        </p:grpSpPr>
        <p:grpSp>
          <p:nvGrpSpPr>
            <p:cNvPr id="768" name="그룹 55"/>
            <p:cNvGrpSpPr/>
            <p:nvPr/>
          </p:nvGrpSpPr>
          <p:grpSpPr>
            <a:xfrm>
              <a:off x="384480" y="2357280"/>
              <a:ext cx="3080880" cy="3357000"/>
              <a:chOff x="384480" y="2357280"/>
              <a:chExt cx="3080880" cy="3357000"/>
            </a:xfrm>
          </p:grpSpPr>
          <p:grpSp>
            <p:nvGrpSpPr>
              <p:cNvPr id="769" name="Group 92"/>
              <p:cNvGrpSpPr/>
              <p:nvPr/>
            </p:nvGrpSpPr>
            <p:grpSpPr>
              <a:xfrm>
                <a:off x="384480" y="2357280"/>
                <a:ext cx="3080880" cy="3357000"/>
                <a:chOff x="384480" y="2357280"/>
                <a:chExt cx="3080880" cy="3357000"/>
              </a:xfrm>
            </p:grpSpPr>
            <p:sp>
              <p:nvSpPr>
                <p:cNvPr id="770" name="AutoShape 93"/>
                <p:cNvSpPr/>
                <p:nvPr/>
              </p:nvSpPr>
              <p:spPr>
                <a:xfrm>
                  <a:off x="384480" y="2357280"/>
                  <a:ext cx="3080880" cy="3357000"/>
                </a:xfrm>
                <a:custGeom>
                  <a:avLst/>
                  <a:gdLst>
                    <a:gd name="textAreaLeft" fmla="*/ 150120 w 3080880"/>
                    <a:gd name="textAreaRight" fmla="*/ 2930760 w 3080880"/>
                    <a:gd name="textAreaTop" fmla="*/ 150120 h 3357000"/>
                    <a:gd name="textAreaBottom" fmla="*/ 3206880 h 3357000"/>
                  </a:gdLst>
                  <a:ahLst/>
                  <a:rect l="textAreaLeft" t="textAreaTop" r="textAreaRight" b="textAreaBottom"/>
                  <a:pathLst>
                    <a:path w="21600" h="23536">
                      <a:moveTo>
                        <a:pt x="3600" y="0"/>
                      </a:moveTo>
                      <a:arcTo wR="3600" hR="3600" stAng="16200000" swAng="-5400000"/>
                      <a:lnTo>
                        <a:pt x="0" y="19936"/>
                      </a:lnTo>
                      <a:arcTo wR="3600" hR="3600" stAng="10800000" swAng="-5400000"/>
                      <a:lnTo>
                        <a:pt x="18000" y="23536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002060"/>
                </a:solidFill>
                <a:ln w="9360">
                  <a:solidFill>
                    <a:srgbClr val="a04da3"/>
                  </a:solidFill>
                  <a:miter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Rectangle 94"/>
                <p:cNvSpPr/>
                <p:nvPr/>
              </p:nvSpPr>
              <p:spPr>
                <a:xfrm>
                  <a:off x="384480" y="2357280"/>
                  <a:ext cx="570600" cy="1566720"/>
                </a:xfrm>
                <a:prstGeom prst="rect">
                  <a:avLst/>
                </a:prstGeom>
                <a:solidFill>
                  <a:srgbClr val="002060"/>
                </a:solidFill>
                <a:ln w="0">
                  <a:noFill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2" name="Group 95"/>
              <p:cNvGrpSpPr/>
              <p:nvPr/>
            </p:nvGrpSpPr>
            <p:grpSpPr>
              <a:xfrm>
                <a:off x="455760" y="2441160"/>
                <a:ext cx="2939760" cy="3217680"/>
                <a:chOff x="455760" y="2441160"/>
                <a:chExt cx="2939760" cy="3217680"/>
              </a:xfrm>
            </p:grpSpPr>
            <p:sp>
              <p:nvSpPr>
                <p:cNvPr id="773" name="AutoShape 96"/>
                <p:cNvSpPr/>
                <p:nvPr/>
              </p:nvSpPr>
              <p:spPr>
                <a:xfrm>
                  <a:off x="455760" y="2441160"/>
                  <a:ext cx="2939760" cy="3217680"/>
                </a:xfrm>
                <a:custGeom>
                  <a:avLst/>
                  <a:gdLst>
                    <a:gd name="textAreaLeft" fmla="*/ 143280 w 2939760"/>
                    <a:gd name="textAreaRight" fmla="*/ 2796480 w 2939760"/>
                    <a:gd name="textAreaTop" fmla="*/ 143280 h 3217680"/>
                    <a:gd name="textAreaBottom" fmla="*/ 3074400 h 3217680"/>
                  </a:gdLst>
                  <a:ahLst/>
                  <a:rect l="textAreaLeft" t="textAreaTop" r="textAreaRight" b="textAreaBottom"/>
                  <a:pathLst>
                    <a:path w="21600" h="23642">
                      <a:moveTo>
                        <a:pt x="3600" y="0"/>
                      </a:moveTo>
                      <a:arcTo wR="3600" hR="3600" stAng="16200000" swAng="-5400000"/>
                      <a:lnTo>
                        <a:pt x="0" y="20042"/>
                      </a:lnTo>
                      <a:arcTo wR="3600" hR="3600" stAng="10800000" swAng="-5400000"/>
                      <a:lnTo>
                        <a:pt x="18000" y="23642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Rectangle 97"/>
                <p:cNvSpPr/>
                <p:nvPr/>
              </p:nvSpPr>
              <p:spPr>
                <a:xfrm>
                  <a:off x="455760" y="2441160"/>
                  <a:ext cx="544680" cy="1487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5" name="Line 98"/>
              <p:cNvSpPr/>
              <p:nvPr/>
            </p:nvSpPr>
            <p:spPr>
              <a:xfrm>
                <a:off x="594360" y="3143160"/>
                <a:ext cx="2637720" cy="0"/>
              </a:xfrm>
              <a:prstGeom prst="line">
                <a:avLst/>
              </a:prstGeom>
              <a:ln w="12600">
                <a:solidFill>
                  <a:srgbClr val="783a7a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76" name="직사각형 5" descr=""/>
            <p:cNvPicPr/>
            <p:nvPr/>
          </p:nvPicPr>
          <p:blipFill>
            <a:blip r:embed="rId2"/>
            <a:stretch/>
          </p:blipFill>
          <p:spPr>
            <a:xfrm>
              <a:off x="428760" y="2401560"/>
              <a:ext cx="2139480" cy="105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7" name="직사각형 6" descr=""/>
            <p:cNvPicPr/>
            <p:nvPr/>
          </p:nvPicPr>
          <p:blipFill>
            <a:blip r:embed="rId3"/>
            <a:stretch/>
          </p:blipFill>
          <p:spPr>
            <a:xfrm>
              <a:off x="357120" y="3315960"/>
              <a:ext cx="3143160" cy="171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8" name="직사각형 45"/>
          <p:cNvSpPr/>
          <p:nvPr/>
        </p:nvSpPr>
        <p:spPr>
          <a:xfrm>
            <a:off x="5031360" y="2344680"/>
            <a:ext cx="210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특수 아동의 유형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직사각형 45"/>
          <p:cNvSpPr/>
          <p:nvPr/>
        </p:nvSpPr>
        <p:spPr>
          <a:xfrm>
            <a:off x="5134320" y="3267000"/>
            <a:ext cx="228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미국 장애인 교육법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직사각형 45"/>
          <p:cNvSpPr/>
          <p:nvPr/>
        </p:nvSpPr>
        <p:spPr>
          <a:xfrm>
            <a:off x="4837320" y="4187880"/>
            <a:ext cx="139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교수 전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2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A968B-59B9-4063-A6C4-53742ABCACE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3" name="TextBox 9" descr=""/>
          <p:cNvPicPr/>
          <p:nvPr/>
        </p:nvPicPr>
        <p:blipFill>
          <a:blip r:embed="rId1"/>
          <a:stretch/>
        </p:blipFill>
        <p:spPr>
          <a:xfrm>
            <a:off x="5175360" y="506520"/>
            <a:ext cx="372420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84" name=""/>
          <p:cNvGraphicFramePr/>
          <p:nvPr/>
        </p:nvGraphicFramePr>
        <p:xfrm>
          <a:off x="714240" y="3214800"/>
          <a:ext cx="7858440" cy="3132000"/>
        </p:xfrm>
        <a:graphic>
          <a:graphicData uri="http://schemas.openxmlformats.org/drawingml/2006/table">
            <a:tbl>
              <a:tblPr/>
              <a:tblGrid>
                <a:gridCol w="1546200"/>
                <a:gridCol w="6312240"/>
              </a:tblGrid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범  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설  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</a:tr>
              <a:tr h="688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영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능이 평균 이상이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특정 분야에서 탁월한 재능을 보이는 학습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신지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능이 평균보다 유의하게 낮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Q 70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하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,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적응행동 결손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즉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실용적 및 사회적 지능이 있는 장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습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능이 평균보다 높지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특정 교과의 학습이나 인지과정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;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언어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기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메타인지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에 문제가 있는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ADH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주의력결핍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과잉활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충동성 등의 특징을 갖고 있는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5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18E92-D2F9-4F2B-8CF7-8FA8439986BD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6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787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788" name="직사각형 14"/>
              <p:cNvSpPr/>
              <p:nvPr/>
            </p:nvSpPr>
            <p:spPr>
              <a:xfrm>
                <a:off x="1468440" y="138600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특수학습자의 유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9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2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79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4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5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6" name="그룹 43"/>
          <p:cNvGrpSpPr/>
          <p:nvPr/>
        </p:nvGrpSpPr>
        <p:grpSpPr>
          <a:xfrm>
            <a:off x="571680" y="1876320"/>
            <a:ext cx="8072280" cy="1452240"/>
            <a:chOff x="571680" y="1876320"/>
            <a:chExt cx="8072280" cy="1452240"/>
          </a:xfrm>
        </p:grpSpPr>
        <p:pic>
          <p:nvPicPr>
            <p:cNvPr id="797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12020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8" name="타원 18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799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0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1" name="직사각형 19"/>
            <p:cNvSpPr/>
            <p:nvPr/>
          </p:nvSpPr>
          <p:spPr>
            <a:xfrm>
              <a:off x="928800" y="2000160"/>
              <a:ext cx="766908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수학습자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exceptional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learner)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능력이 특별히 높거나 반대로 능력이 특별히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낮은 학습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서 및 행동의 측면에서 정상범주에서 이탈된 학습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TextBox 9" descr=""/>
          <p:cNvPicPr/>
          <p:nvPr/>
        </p:nvPicPr>
        <p:blipFill>
          <a:blip r:embed="rId1"/>
          <a:stretch/>
        </p:blipFill>
        <p:spPr>
          <a:xfrm>
            <a:off x="5181480" y="506520"/>
            <a:ext cx="359748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03" name=""/>
          <p:cNvGraphicFramePr/>
          <p:nvPr/>
        </p:nvGraphicFramePr>
        <p:xfrm>
          <a:off x="635040" y="1928880"/>
          <a:ext cx="7873920" cy="4513320"/>
        </p:xfrm>
        <a:graphic>
          <a:graphicData uri="http://schemas.openxmlformats.org/drawingml/2006/table">
            <a:tbl>
              <a:tblPr/>
              <a:tblGrid>
                <a:gridCol w="1650960"/>
                <a:gridCol w="6222960"/>
              </a:tblGrid>
              <a:tr h="37152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범  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설  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</a:tr>
              <a:tr h="68904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말하기 및 소통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업수행을 심각하게 방해하는 말 혹은 언어이해의 손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서 및 행동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기간 지속되고 학업을 심각하게 방해하는 정서 혹은 행동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폐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적 상호작용 및 소통의 손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반복적인 행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정된 흥미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예측가능한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환경에 대한 강박적인 요구를 특징으로 하는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신체 및 건강 손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제한된 에너지와 활력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신적 민감성의 둔화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근육의 통제 결여 중 하나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상의 특징을 갖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있는 신체 혹은 의학적 조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시각 손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상적인 시지각을 방해하는 눈 혹은 시신경의 기능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84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청각 상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상적인 말의 빈도 범위에서 소리지각을 방해하는 귀 혹은 관련 신경의 기능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4" name="슬라이드 번호 개체 틀 4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A39D0-3745-4FE7-8D39-07D06FEBEB1B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5" name="TextBox 9" descr=""/>
          <p:cNvPicPr/>
          <p:nvPr/>
        </p:nvPicPr>
        <p:blipFill>
          <a:blip r:embed="rId1"/>
          <a:stretch/>
        </p:blipFill>
        <p:spPr>
          <a:xfrm>
            <a:off x="5218200" y="506520"/>
            <a:ext cx="3681360" cy="590400"/>
          </a:xfrm>
          <a:prstGeom prst="rect">
            <a:avLst/>
          </a:prstGeom>
          <a:ln w="0">
            <a:noFill/>
          </a:ln>
        </p:spPr>
      </p:pic>
      <p:sp>
        <p:nvSpPr>
          <p:cNvPr id="806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7C89A-5E82-41D1-AF18-6CBC44F0677A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7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08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09" name="직사각형 14"/>
              <p:cNvSpPr/>
              <p:nvPr/>
            </p:nvSpPr>
            <p:spPr>
              <a:xfrm>
                <a:off x="1504080" y="1386000"/>
                <a:ext cx="1596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미국 장애인 교육법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1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3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81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5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6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7" name="그룹 43"/>
          <p:cNvGrpSpPr/>
          <p:nvPr/>
        </p:nvGrpSpPr>
        <p:grpSpPr>
          <a:xfrm>
            <a:off x="571680" y="1876320"/>
            <a:ext cx="8072280" cy="695520"/>
            <a:chOff x="571680" y="1876320"/>
            <a:chExt cx="8072280" cy="695520"/>
          </a:xfrm>
        </p:grpSpPr>
        <p:pic>
          <p:nvPicPr>
            <p:cNvPr id="818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695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19" name="타원 18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820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1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2" name="직사각형 19"/>
            <p:cNvSpPr/>
            <p:nvPr/>
          </p:nvSpPr>
          <p:spPr>
            <a:xfrm>
              <a:off x="928800" y="200016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1975</a:t>
              </a:r>
              <a:r>
                <a:rPr b="0" lang="ko-KR" sz="1800" spc="-1" strike="noStrike">
                  <a:solidFill>
                    <a:srgbClr val="000000"/>
                  </a:solidFill>
                  <a:latin typeface="HY바다M"/>
                  <a:ea typeface="휴먼모음T"/>
                </a:rPr>
                <a:t>년 장애 학생이 무상 공교육을 받을 수 있도록 제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3" name="직사각형 16"/>
          <p:cNvSpPr/>
          <p:nvPr/>
        </p:nvSpPr>
        <p:spPr>
          <a:xfrm>
            <a:off x="285840" y="2890800"/>
            <a:ext cx="8572320" cy="30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4464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무상의 적절한 공교육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Free Appropriate Public Education: FAP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모든 학생에게 무상으로 적절한 공교육 제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절한 교육 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인에게 교육적 수혜를 제공하기 위해 특별히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  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별적으로 고안된 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464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소한으로 제한된 환경 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통합을 향한 변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주류화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Mainstreaming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의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소한의 선택된 활동만을 위해서라도 특수학생들을 분리된 학급에서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규 학급으로 이동시키는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점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 등이 종종 필요한 조력을 받을 수 없는 교실에 배치됨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4" name="TextBox 9" descr=""/>
          <p:cNvPicPr/>
          <p:nvPr/>
        </p:nvPicPr>
        <p:blipFill>
          <a:blip r:embed="rId1"/>
          <a:stretch/>
        </p:blipFill>
        <p:spPr>
          <a:xfrm>
            <a:off x="5218200" y="506520"/>
            <a:ext cx="3681360" cy="590400"/>
          </a:xfrm>
          <a:prstGeom prst="rect">
            <a:avLst/>
          </a:prstGeom>
          <a:ln w="0">
            <a:noFill/>
          </a:ln>
        </p:spPr>
      </p:pic>
      <p:sp>
        <p:nvSpPr>
          <p:cNvPr id="825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207E9-2C85-45E2-A624-BA316B0BDDD6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직사각형 16"/>
          <p:cNvSpPr/>
          <p:nvPr/>
        </p:nvSpPr>
        <p:spPr>
          <a:xfrm>
            <a:off x="142920" y="1857240"/>
            <a:ext cx="8929800" cy="34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4464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소한으로 제한된 환경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Least Restrictive Environment : LRE)</a:t>
            </a:r>
            <a:r>
              <a:rPr b="0" lang="en-US" sz="17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주류화의 문제점에 대한 대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buClr>
                <a:srgbClr val="424456"/>
              </a:buClr>
              <a:buFont typeface="휴먼모음T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들의 특수한 욕구를 만족시키면서 가능한 한 일반학교에 배치하는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일제로 일반학급에 배치하는 것으로부터 분리 시설에 수용하는 것까지의 연속상의 서비스로 구성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응적 일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이 특정학교에서 요구를 충족시킬 수 있는 정도와 학교가 욕구를 충족시킬 수 있는 정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LRE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의 중심 개념으로 특수학생의 교육을 위한 개별화 접근을 중시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7" name="TextBox 9" descr=""/>
          <p:cNvPicPr/>
          <p:nvPr/>
        </p:nvPicPr>
        <p:blipFill>
          <a:blip r:embed="rId1"/>
          <a:stretch/>
        </p:blipFill>
        <p:spPr>
          <a:xfrm>
            <a:off x="6291360" y="506520"/>
            <a:ext cx="2603520" cy="590400"/>
          </a:xfrm>
          <a:prstGeom prst="rect">
            <a:avLst/>
          </a:prstGeom>
          <a:ln w="0">
            <a:noFill/>
          </a:ln>
        </p:spPr>
      </p:pic>
      <p:sp>
        <p:nvSpPr>
          <p:cNvPr id="828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9514F-5F04-473E-A0ED-8806B4641FC0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9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30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31" name="직사각형 14"/>
              <p:cNvSpPr/>
              <p:nvPr/>
            </p:nvSpPr>
            <p:spPr>
              <a:xfrm>
                <a:off x="1051920" y="1386000"/>
                <a:ext cx="373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통합 학급에서의 교사 역할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3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5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83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37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38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9" name="그룹 43"/>
          <p:cNvGrpSpPr/>
          <p:nvPr/>
        </p:nvGrpSpPr>
        <p:grpSpPr>
          <a:xfrm>
            <a:off x="571680" y="1857240"/>
            <a:ext cx="8072280" cy="714600"/>
            <a:chOff x="571680" y="1857240"/>
            <a:chExt cx="8072280" cy="714600"/>
          </a:xfrm>
        </p:grpSpPr>
        <p:pic>
          <p:nvPicPr>
            <p:cNvPr id="840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57240"/>
              <a:ext cx="8072280" cy="7146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41" name="타원 18"/>
            <p:cNvGrpSpPr/>
            <p:nvPr/>
          </p:nvGrpSpPr>
          <p:grpSpPr>
            <a:xfrm>
              <a:off x="859680" y="2139480"/>
              <a:ext cx="225360" cy="231480"/>
              <a:chOff x="859680" y="2139480"/>
              <a:chExt cx="225360" cy="231480"/>
            </a:xfrm>
          </p:grpSpPr>
          <p:pic>
            <p:nvPicPr>
              <p:cNvPr id="842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3" name=""/>
              <p:cNvSpPr/>
              <p:nvPr/>
            </p:nvSpPr>
            <p:spPr>
              <a:xfrm rot="10800000">
                <a:off x="942840" y="2195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4" name="직사각형 19"/>
            <p:cNvSpPr/>
            <p:nvPr/>
          </p:nvSpPr>
          <p:spPr>
            <a:xfrm>
              <a:off x="857160" y="19810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바다M"/>
                  <a:ea typeface="휴먼모음T"/>
                </a:rPr>
                <a:t>특수 학생 변별하기 및 가르치기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5" name="직사각형 16"/>
          <p:cNvSpPr/>
          <p:nvPr/>
        </p:nvSpPr>
        <p:spPr>
          <a:xfrm>
            <a:off x="285840" y="2786040"/>
            <a:ext cx="8572320" cy="39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전략 원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모든 학생들의 학습을 증진시틸 효과적 교수방법 사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과 관련된 추가적인 지원 제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의 필요에 맞는 수업 활동 및 과제 설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 욕구 충족 위한 조정된 독서 자료 준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전략을  적극적으로 가르칠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들의 성장과 교실 내 통합을 위한 계획 실행</a:t>
            </a:r>
            <a:br>
              <a:rPr sz="1800"/>
            </a:br>
            <a:r>
              <a:rPr b="0" lang="ko-KR" sz="1800" spc="-1" strike="noStrike">
                <a:solidFill>
                  <a:srgbClr val="000000"/>
                </a:solidFill>
                <a:latin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지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과 관련된 추가적인 지원 제공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lt;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gt;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체 학생이 제자리에서 개별 과제 수행 시에도 교사가 개인적으로 혹은 소그룹 학생과 과제 수행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튜터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추가적인 조정사항의 예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&lt;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5.4&gt; p. 2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6" name="TextBox 9" descr=""/>
          <p:cNvPicPr/>
          <p:nvPr/>
        </p:nvPicPr>
        <p:blipFill>
          <a:blip r:embed="rId1"/>
          <a:stretch/>
        </p:blipFill>
        <p:spPr>
          <a:xfrm>
            <a:off x="6291360" y="506520"/>
            <a:ext cx="2603520" cy="590400"/>
          </a:xfrm>
          <a:prstGeom prst="rect">
            <a:avLst/>
          </a:prstGeom>
          <a:ln w="0">
            <a:noFill/>
          </a:ln>
        </p:spPr>
      </p:pic>
      <p:sp>
        <p:nvSpPr>
          <p:cNvPr id="84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6FCFA-6CCA-4757-90B7-2EEFF2C29D19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4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50" name="직사각형 14"/>
              <p:cNvSpPr/>
              <p:nvPr/>
            </p:nvSpPr>
            <p:spPr>
              <a:xfrm>
                <a:off x="1051920" y="1386000"/>
                <a:ext cx="373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통합 학급에서의 교사 역할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5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4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85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6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8" name="그룹 43"/>
          <p:cNvGrpSpPr/>
          <p:nvPr/>
        </p:nvGrpSpPr>
        <p:grpSpPr>
          <a:xfrm>
            <a:off x="571680" y="1857240"/>
            <a:ext cx="8072280" cy="714600"/>
            <a:chOff x="571680" y="1857240"/>
            <a:chExt cx="8072280" cy="714600"/>
          </a:xfrm>
        </p:grpSpPr>
        <p:pic>
          <p:nvPicPr>
            <p:cNvPr id="85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57240"/>
              <a:ext cx="8072280" cy="7146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60" name="타원 18"/>
            <p:cNvGrpSpPr/>
            <p:nvPr/>
          </p:nvGrpSpPr>
          <p:grpSpPr>
            <a:xfrm>
              <a:off x="859680" y="2139480"/>
              <a:ext cx="225360" cy="231480"/>
              <a:chOff x="859680" y="2139480"/>
              <a:chExt cx="225360" cy="231480"/>
            </a:xfrm>
          </p:grpSpPr>
          <p:pic>
            <p:nvPicPr>
              <p:cNvPr id="86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2" name=""/>
              <p:cNvSpPr/>
              <p:nvPr/>
            </p:nvSpPr>
            <p:spPr>
              <a:xfrm rot="10800000">
                <a:off x="942840" y="2195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3" name="직사각형 19"/>
            <p:cNvSpPr/>
            <p:nvPr/>
          </p:nvSpPr>
          <p:spPr>
            <a:xfrm>
              <a:off x="857160" y="19810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바다M"/>
                  <a:ea typeface="휴먼모음T"/>
                </a:rPr>
                <a:t>특수 학생 변별하기 및 가르치기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4" name="직사각형 16"/>
          <p:cNvSpPr/>
          <p:nvPr/>
        </p:nvSpPr>
        <p:spPr>
          <a:xfrm>
            <a:off x="285840" y="2786040"/>
            <a:ext cx="8572320" cy="33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절한 행동을 학습하도록 돕기</a:t>
            </a:r>
            <a:r>
              <a:rPr b="1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행동 개선의 두 가지 전략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상담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응용행동분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51"/>
              </a:spcBef>
              <a:buClr>
                <a:srgbClr val="42445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코치와 시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51"/>
              </a:spcBef>
              <a:buClr>
                <a:srgbClr val="42445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상호작용과 협력을 증진시키기 위한 전략들 </a:t>
            </a:r>
            <a:r>
              <a:rPr b="1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일반학생만큼 특수학생도 자주 호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협동학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또래 튜터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보조적 테크놀로지 활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0-28T00:35:24Z</dcterms:modified>
  <cp:revision>363</cp:revision>
  <dc:subject/>
  <dc:title>PowerPoint Template</dc:title>
</cp:coreProperties>
</file>